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8C3B-D936-45E4-8D30-B4D01C78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63F1-8A23-4577-96B2-3146814C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F5C-44EA-46C3-B502-D21101AE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E821-245D-4B12-B283-47752FC7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E20F-9DBD-49E6-8146-33C286D1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851F-5042-4ED1-9032-E2A4AADD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FA9B-A5E7-4B8F-9346-5A9A18E6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00F8-C9C9-4DB8-9E0F-D3C638FA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2FF3-3A10-4DA0-B615-AC05C2B9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3BB4-F47C-43DE-BFA0-C9FF3F7A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2206-46FC-4CA1-9FA7-CE6E632E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431A-9E7C-4C21-9439-C4C217BD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D26B-2E23-45DB-B087-EFD8512D62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925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Nuclear Reactions </a:t>
            </a:r>
            <a:br>
              <a:rPr sz="5400"/>
            </a:br>
            <a:br>
              <a:rPr sz="5400"/>
            </a:b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hapter 19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BE04-8A50-4E6D-8CA2-DC2000C92A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alf-Lif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all radionuclides in a sample decay at o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ength of time it takes one-half the radionuclides to decay is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lf-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n though the number of radionuclides changes, the length of time it takes for half of them to decay does n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alf-life of a radionuclide is 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radionuclide has its own, unique half-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adionuclide with the shortest half-life will have the greater number of decays per min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samples of equal numbers of radioactive a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BA67-3D13-4C98-8CF6-6111020982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8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alf-Lif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f of the radioactive atoms decay each half-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351160" y="2146320"/>
          <a:ext cx="4735440" cy="383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1160" y="2146320"/>
                    <a:ext cx="4735440" cy="38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ED2F-EB24-4C64-89F0-3BE09624FE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alf-Lif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order rate reaction as we’ve done bef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 = 0.693/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/2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n 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X  =  k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vity measured in Bequerels (Bq), number atoms decaying per seco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so measured in curies (Ci) 3.700 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toms per seco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DECD-0196-4B9F-BC62-E48B2A5C79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ject Dat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eral (geologic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are the amount of U-238 to Pb-2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are amount of K-40 to Ar-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cheological (once living materia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are the amount of C-14 to C-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-14 radioactive with half-life = 5730 y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le living, C-14/C-12 fairly cons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 air ultimate source of all C in 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mospheric chemistry keeps producing C-14 at the same rate it dec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dies, C-14/C-12 ratio decr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mit up to 50,000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3BE3-B931-4981-A102-2C93F1E0F6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2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2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7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dical Uses of Radioisotopes,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iagnosi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9791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otrac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tain organs absorb most or all of a particular e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measure the amount absorbed by using tagged isotopes of the element and a Geiger cou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radioisotope with short half-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radioisotope low ioniz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ta or gam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A939-242F-4180-8AF1-EEAE4AE64A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9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ass energy rel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ergy change in a nuclear reaction can be determined by finding the change in mass and multiplying by the speed of light squa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c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ind the change in mass use products – reactants.  Use the masses in amu from Table 19.3 (can’t use periodic table because these are average atomic mass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binding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nucleus weighs less than the protons and neutrons it is composed of.  The difference is call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ass defec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the energy change is call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inding energy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E=m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fi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82A3-0B7A-4577-8A1B-5723E0EA0C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Nuclear Chang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ew nuclei are so unstable, that if their nucleus is hit just right by a neutron, the large nucleus splits into two smaller nuclei - this is calle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 nuclei can be accelerated to such a degree that they overcome their charge repulsion and are smashed together to make a larger nucleus - this is calle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oth fission and fusion release enormous amounts of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3C12-C0CA-4F35-ABA8-BEF3EA320F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issionable Materi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ssionable isotopes include U-235, Pu-239, and Pu-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uranium is less than 1% U-23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t mostly U-23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enough U-235 to sustain chain re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ssion produces about 2.1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J/mol of U-23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6 million times the energy of burning 1 mole 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duce fissionable uranium the natural uranium must b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rich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U-23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8821-2C95-4B56-AB61-72C9EED45F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3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ission Chain Rea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in rea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ccurs when a reactant is also a pro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 the fission process it is the neutr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nly need a small amount of neutrons to keep the chain goi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of the neutrons produced in the fission are either ejected from the uranium before they hit another U-235 or are absorbed by the surrounding U-23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um amount of fissionable isotope needed to sustain the chain reaction is called 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ritical m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A8CF-4402-4AA6-AEFE-82579475EB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uclear Power P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400" y="1447560"/>
            <a:ext cx="88819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fission of U-235 or Pu-240 to make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t picked up by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ola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transferred to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o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boiler the heat boils water, changes it to steam, which turns a turbine, which generates electr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ssion reaction takes place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ctor c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283E-75F4-41A2-85BB-F13AFB82EE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acts About the Nucleu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small volume compared to volume of a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sentially entire mass of a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de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sed of protons and neutrons that are tightly held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cle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 atom of an element has the same number of pro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otopes are atoms of the same elements that have different m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t numbers of 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ss Number = number of protons + 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047D-7256-432D-B187-BFB63D2EC0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uclear Power Plants - Co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ssionable material is stored in long tubes arranged in a matrix calle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uel r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crit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ween the fuel rods ar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rol rod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ade of neutron absorbing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 and/or C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utrons needed to sustain the chain re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ods are placed in a material used to slow down the ejected neutrons called 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de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chain reaction to occur below critical m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6850-AB65-438A-B7CB-F643389B17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9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reeder Reacto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common in Eur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s its own fuel by converting U-238 to Pu-23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iquid sodium as a mode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water filled radiator to transfer heat to bo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utonium highly toxic and spontaneously combusts in 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BFD7-68D3-42F1-A6BB-170A910AD6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uclear Fu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u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process of combining two light nuclei to form a heavier nucle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n’s energy comes from fusion of hydrogen to produce hel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s more energy per gram than f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high temperatures and large amounts of energy to initiate, but should continue if you can get it star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3815-5E5F-4920-8D90-B196E15CC1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actors that Determine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iological Effects of Radi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more energy the radiation has the larger its effect can b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better the ionizing radiation penetrates human tissue, the deeper effect it can hav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ma &gt;&gt; Beta &gt; Alph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more ionizing the radiation, the more effect the radiation h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pha &gt; Beta &gt; Gam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radioactive half-life of the radionuclid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Times New Roman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biological half-life of the elem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Times New Roman"/>
              <a:buChar char="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physical state of the radioactive mater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amount of danger to humans of radiation is measured in the unit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rem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C645-4797-4CE6-92A5-6910A82B89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0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5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0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5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matic Damag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matic Dama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damage which has an impact on the org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ckness or De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be seen immediately or in the fu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ends on the amount of exp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ture effects include canc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0FBB-B50D-473A-AC40-2CF06471F9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netic Damag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Damage occurs when the radiation causes damage to reproductive cells or organs resulting in damage to future offsp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B9C7-03F2-401C-8BA4-073D6B07E4B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1644-9315-466A-9F3A-DC07CABA6DA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B160-ACB6-4BA1-9737-8F28DD0969F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BA8B-DFDC-4D33-BDBE-1BD447327CF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B1DF-085C-428D-8550-F278CB9410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acts About the Nucleu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8160" y="1117440"/>
            <a:ext cx="8651880" cy="38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mber of neutrons is calculated by subtracting the atomic number from the mass nu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cleus of an isotope is called 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uc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than 10% of the known nuclides are nonradioactive, most ar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dionucl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nuclide is identified by a symb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ment -Mass Number = X-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676520" y="5181480"/>
                <a:ext cx="481320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atomic number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ss number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Element </m:t>
                    </m:r>
                    <m:r>
                      <m:t xml:space="preserve">=</m:t>
                    </m:r>
                    <m:sPr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Z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4796-B852-4645-A739-0371EEC449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92A5-7C96-4CDD-9388-0E35542D3B3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adioactivi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Radioactive nuclei spontaneously decompose into smaller nuclei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ioactive dec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say that radioactive nuclei a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s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Decomposing involves the nuclide emitting a particle and/or energy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During radioactive decay, atoms of one element are changed into atoms of a different el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order for one element to change into another, the number of protons in the nucleus must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nuclides with 84 or more protons are radioa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We describe nuclear changes with using nuclear equation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omic numbers and mass numbers are conser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6F08-EBC4-454F-882F-FCCC999809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lpha deca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article contains 2 protons and 2 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lium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ss of an alpha particle me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omic number decreases by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ss number decreases by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876920" y="1447920"/>
                <a:ext cx="389880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Ra 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 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16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R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85800" y="27432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eta dec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article is like an elec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ing much fa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nd in 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n atom loses a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article 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omic number increases by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ss number remains the s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beta decay a neutron changes into a pro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876920" y="3809880"/>
                <a:ext cx="36655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Th 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e 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P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5187960" y="1554120"/>
            <a:ext cx="142920" cy="214200"/>
          </a:xfrm>
          <a:custGeom>
            <a:avLst/>
            <a:gdLst/>
            <a:ahLst/>
            <a:rect l="l" t="t" r="r" b="b"/>
            <a:pathLst>
              <a:path w="397" h="596">
                <a:moveTo>
                  <a:pt x="14610" y="4390"/>
                </a:moveTo>
                <a:cubicBezTo>
                  <a:pt x="14610" y="4365"/>
                  <a:pt x="14610" y="4341"/>
                  <a:pt x="14610" y="4316"/>
                </a:cubicBezTo>
                <a:cubicBezTo>
                  <a:pt x="14580" y="4326"/>
                  <a:pt x="14569" y="4337"/>
                  <a:pt x="14536" y="4366"/>
                </a:cubicBezTo>
                <a:cubicBezTo>
                  <a:pt x="14502" y="4396"/>
                  <a:pt x="14476" y="4394"/>
                  <a:pt x="14461" y="4440"/>
                </a:cubicBezTo>
                <a:cubicBezTo>
                  <a:pt x="14449" y="4475"/>
                  <a:pt x="14423" y="4505"/>
                  <a:pt x="14412" y="4539"/>
                </a:cubicBezTo>
                <a:cubicBezTo>
                  <a:pt x="14388" y="4613"/>
                  <a:pt x="14416" y="4726"/>
                  <a:pt x="14436" y="4787"/>
                </a:cubicBezTo>
                <a:cubicBezTo>
                  <a:pt x="14445" y="4814"/>
                  <a:pt x="14475" y="4876"/>
                  <a:pt x="14511" y="4887"/>
                </a:cubicBezTo>
                <a:cubicBezTo>
                  <a:pt x="14555" y="4900"/>
                  <a:pt x="14616" y="4907"/>
                  <a:pt x="14660" y="4911"/>
                </a:cubicBezTo>
                <a:cubicBezTo>
                  <a:pt x="14716" y="4916"/>
                  <a:pt x="14700" y="4900"/>
                  <a:pt x="14734" y="4862"/>
                </a:cubicBezTo>
                <a:cubicBezTo>
                  <a:pt x="14765" y="4828"/>
                  <a:pt x="14803" y="4808"/>
                  <a:pt x="14808" y="4762"/>
                </a:cubicBezTo>
                <a:cubicBezTo>
                  <a:pt x="14816" y="4691"/>
                  <a:pt x="14802" y="4646"/>
                  <a:pt x="14784" y="4589"/>
                </a:cubicBezTo>
                <a:cubicBezTo>
                  <a:pt x="14776" y="4564"/>
                  <a:pt x="14772" y="4513"/>
                  <a:pt x="14759" y="4490"/>
                </a:cubicBezTo>
                <a:cubicBezTo>
                  <a:pt x="14740" y="4457"/>
                  <a:pt x="14694" y="4419"/>
                  <a:pt x="14660" y="4415"/>
                </a:cubicBezTo>
                <a:cubicBezTo>
                  <a:pt x="14588" y="4407"/>
                  <a:pt x="14602" y="4415"/>
                  <a:pt x="14560" y="44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81760" y="1731960"/>
            <a:ext cx="79200" cy="73080"/>
          </a:xfrm>
          <a:custGeom>
            <a:avLst/>
            <a:gdLst/>
            <a:ahLst/>
            <a:rect l="l" t="t" r="r" b="b"/>
            <a:pathLst>
              <a:path w="224" h="200">
                <a:moveTo>
                  <a:pt x="14114" y="5011"/>
                </a:moveTo>
                <a:cubicBezTo>
                  <a:pt x="14146" y="4991"/>
                  <a:pt x="14286" y="4922"/>
                  <a:pt x="14312" y="4862"/>
                </a:cubicBezTo>
                <a:cubicBezTo>
                  <a:pt x="14312" y="4834"/>
                  <a:pt x="14314" y="4823"/>
                  <a:pt x="14337" y="48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91040" y="1598760"/>
            <a:ext cx="295200" cy="98280"/>
          </a:xfrm>
          <a:custGeom>
            <a:avLst/>
            <a:gdLst/>
            <a:ahLst/>
            <a:rect l="l" t="t" r="r" b="b"/>
            <a:pathLst>
              <a:path w="819" h="274">
                <a:moveTo>
                  <a:pt x="13891" y="4688"/>
                </a:moveTo>
                <a:cubicBezTo>
                  <a:pt x="13828" y="4656"/>
                  <a:pt x="13993" y="4620"/>
                  <a:pt x="14015" y="4614"/>
                </a:cubicBezTo>
                <a:cubicBezTo>
                  <a:pt x="14174" y="4571"/>
                  <a:pt x="14347" y="4530"/>
                  <a:pt x="14511" y="4514"/>
                </a:cubicBezTo>
                <a:cubicBezTo>
                  <a:pt x="14595" y="4506"/>
                  <a:pt x="14621" y="4527"/>
                  <a:pt x="14684" y="4490"/>
                </a:cubicBezTo>
                <a:cubicBezTo>
                  <a:pt x="14469" y="4490"/>
                  <a:pt x="14254" y="4490"/>
                  <a:pt x="14039" y="4490"/>
                </a:cubicBezTo>
                <a:cubicBezTo>
                  <a:pt x="14076" y="4434"/>
                  <a:pt x="14233" y="4442"/>
                  <a:pt x="14312" y="4440"/>
                </a:cubicBezTo>
                <a:cubicBezTo>
                  <a:pt x="14367" y="4439"/>
                  <a:pt x="14651" y="4428"/>
                  <a:pt x="14684" y="4490"/>
                </a:cubicBezTo>
                <a:cubicBezTo>
                  <a:pt x="14695" y="4510"/>
                  <a:pt x="14310" y="4539"/>
                  <a:pt x="14288" y="4539"/>
                </a:cubicBezTo>
                <a:cubicBezTo>
                  <a:pt x="14148" y="4541"/>
                  <a:pt x="14025" y="4537"/>
                  <a:pt x="13891" y="4514"/>
                </a:cubicBezTo>
                <a:cubicBezTo>
                  <a:pt x="13994" y="4471"/>
                  <a:pt x="14145" y="4490"/>
                  <a:pt x="14263" y="4490"/>
                </a:cubicBezTo>
                <a:cubicBezTo>
                  <a:pt x="14365" y="4490"/>
                  <a:pt x="14604" y="4488"/>
                  <a:pt x="14536" y="4564"/>
                </a:cubicBezTo>
                <a:cubicBezTo>
                  <a:pt x="14466" y="4643"/>
                  <a:pt x="14210" y="4654"/>
                  <a:pt x="14114" y="4663"/>
                </a:cubicBezTo>
                <a:cubicBezTo>
                  <a:pt x="14024" y="4672"/>
                  <a:pt x="13965" y="4681"/>
                  <a:pt x="13965" y="4638"/>
                </a:cubicBezTo>
                <a:cubicBezTo>
                  <a:pt x="14118" y="4638"/>
                  <a:pt x="14264" y="4647"/>
                  <a:pt x="14412" y="4663"/>
                </a:cubicBezTo>
                <a:cubicBezTo>
                  <a:pt x="14437" y="4663"/>
                  <a:pt x="14461" y="4663"/>
                  <a:pt x="14486" y="4663"/>
                </a:cubicBezTo>
                <a:cubicBezTo>
                  <a:pt x="14466" y="4742"/>
                  <a:pt x="14387" y="4713"/>
                  <a:pt x="14312" y="4713"/>
                </a:cubicBezTo>
                <a:cubicBezTo>
                  <a:pt x="14159" y="4713"/>
                  <a:pt x="14014" y="4673"/>
                  <a:pt x="13866" y="46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94200" y="1366920"/>
            <a:ext cx="14292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3717" y="3820"/>
                </a:moveTo>
                <a:cubicBezTo>
                  <a:pt x="13756" y="3810"/>
                  <a:pt x="13772" y="3795"/>
                  <a:pt x="13816" y="3795"/>
                </a:cubicBezTo>
                <a:cubicBezTo>
                  <a:pt x="13893" y="3795"/>
                  <a:pt x="13935" y="3822"/>
                  <a:pt x="13965" y="3894"/>
                </a:cubicBezTo>
                <a:cubicBezTo>
                  <a:pt x="14005" y="3992"/>
                  <a:pt x="13987" y="4113"/>
                  <a:pt x="13915" y="4192"/>
                </a:cubicBezTo>
                <a:cubicBezTo>
                  <a:pt x="13850" y="4264"/>
                  <a:pt x="13762" y="4311"/>
                  <a:pt x="13667" y="4316"/>
                </a:cubicBezTo>
                <a:cubicBezTo>
                  <a:pt x="13623" y="4316"/>
                  <a:pt x="13609" y="4319"/>
                  <a:pt x="13593" y="4291"/>
                </a:cubicBezTo>
                <a:cubicBezTo>
                  <a:pt x="13593" y="4222"/>
                  <a:pt x="13632" y="4222"/>
                  <a:pt x="13692" y="4192"/>
                </a:cubicBezTo>
                <a:cubicBezTo>
                  <a:pt x="13770" y="4153"/>
                  <a:pt x="13811" y="4182"/>
                  <a:pt x="13891" y="41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99040" y="1401840"/>
            <a:ext cx="152280" cy="108000"/>
          </a:xfrm>
          <a:custGeom>
            <a:avLst/>
            <a:gdLst/>
            <a:ahLst/>
            <a:rect l="l" t="t" r="r" b="b"/>
            <a:pathLst>
              <a:path w="423" h="299">
                <a:moveTo>
                  <a:pt x="14337" y="3919"/>
                </a:moveTo>
                <a:cubicBezTo>
                  <a:pt x="14415" y="3919"/>
                  <a:pt x="14462" y="3900"/>
                  <a:pt x="14536" y="3894"/>
                </a:cubicBezTo>
                <a:cubicBezTo>
                  <a:pt x="14582" y="3890"/>
                  <a:pt x="14608" y="3955"/>
                  <a:pt x="14585" y="3994"/>
                </a:cubicBezTo>
                <a:cubicBezTo>
                  <a:pt x="14537" y="4077"/>
                  <a:pt x="14412" y="4100"/>
                  <a:pt x="14337" y="4142"/>
                </a:cubicBezTo>
                <a:cubicBezTo>
                  <a:pt x="14252" y="4190"/>
                  <a:pt x="14254" y="4192"/>
                  <a:pt x="14163" y="4192"/>
                </a:cubicBezTo>
                <a:cubicBezTo>
                  <a:pt x="14218" y="4169"/>
                  <a:pt x="14266" y="4159"/>
                  <a:pt x="14312" y="4118"/>
                </a:cubicBezTo>
                <a:cubicBezTo>
                  <a:pt x="14364" y="4072"/>
                  <a:pt x="14357" y="4111"/>
                  <a:pt x="14412" y="4142"/>
                </a:cubicBezTo>
                <a:cubicBezTo>
                  <a:pt x="14466" y="4173"/>
                  <a:pt x="14500" y="4184"/>
                  <a:pt x="14560" y="41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67240" y="1438200"/>
            <a:ext cx="54000" cy="81000"/>
          </a:xfrm>
          <a:custGeom>
            <a:avLst/>
            <a:gdLst/>
            <a:ahLst/>
            <a:rect l="l" t="t" r="r" b="b"/>
            <a:pathLst>
              <a:path w="149" h="224">
                <a:moveTo>
                  <a:pt x="14982" y="4043"/>
                </a:moveTo>
                <a:cubicBezTo>
                  <a:pt x="14925" y="4043"/>
                  <a:pt x="14912" y="4056"/>
                  <a:pt x="14908" y="4118"/>
                </a:cubicBezTo>
                <a:cubicBezTo>
                  <a:pt x="14904" y="4172"/>
                  <a:pt x="14928" y="4211"/>
                  <a:pt x="14982" y="4217"/>
                </a:cubicBezTo>
                <a:cubicBezTo>
                  <a:pt x="15039" y="4223"/>
                  <a:pt x="15052" y="4199"/>
                  <a:pt x="15056" y="4142"/>
                </a:cubicBezTo>
                <a:cubicBezTo>
                  <a:pt x="15060" y="4076"/>
                  <a:pt x="15032" y="4018"/>
                  <a:pt x="14982" y="39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8CAA-EA85-4A79-BC54-9884406884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amma emis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ma (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rays are high energy phot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ma emission occurs when the nucleus rearr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loss of particles from the nucle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change in the composition of the nucle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atomic number and mass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ly occurs whenever the nucleus undergoes some other type of dec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1C1D-4199-4A37-996D-0E18187884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ositron emis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68580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ron has a charge of +1 c.u. and negligible m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-elec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n atom loses a positron from the nucleus, 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ss number remains the s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omic number decreases by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rons appear to result from a proton changing into a neu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257800" y="1752480"/>
                <a:ext cx="370188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 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e 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3808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ectron cap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733920"/>
            <a:ext cx="67816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occurs when an inner orbital electron is pulled into the nucleu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o particle emission, but atom chang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75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ame result as positron emiss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roton combines with the electron to make a neutr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75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ass number stays the sam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75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tomic number decreases by o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105520" y="4191120"/>
                <a:ext cx="386712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g 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A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076-190E-45F3-85B1-0A7A489F84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2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rtificial Nuclear Transform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clear transformation involves changing one element into another by bombarding it with small nuclei, protons or neutr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ction done in 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ticle accele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yclotr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e-mad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nsuranium el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447920" y="5029200"/>
                <a:ext cx="58798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U 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X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4 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 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BB8E-136C-4EAE-9825-482272B9EF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4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9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tecting Radioactivi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detect something, you need to identify something it do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oactive rays cause air to become io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iger-Müller Counter works by counting electrons generated when Ar gas atoms are ionized by radioactive r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oactive rays cause certain chemicals to give off a flash of light when they strike the chem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cintillation counter is able to count the number of flashes per minu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AC4A-5B08-44EE-A553-BC4B5FC19C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1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6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15:44:43Z</dcterms:created>
  <dc:creator/>
  <dc:description/>
  <dc:language>en-US</dc:language>
  <cp:lastModifiedBy>FPS</cp:lastModifiedBy>
  <dcterms:modified xsi:type="dcterms:W3CDTF">2008-04-09T15:53:34Z</dcterms:modified>
  <cp:revision>4</cp:revision>
  <dc:subject/>
  <dc:title>No Slide Title</dc:title>
</cp:coreProperties>
</file>